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129-2D8E-4CA6-B7F6-FBED8FDA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B9D5-2B9B-45F1-88C3-8A92501B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823-46F6-4BDE-ACAC-AC28E3BB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F11-4F25-425B-99B7-F1E42F1A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83C-7E88-4D59-92EA-9385C37F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D54-48F3-44A8-820A-D423E726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23A-CE73-4292-806C-8712F061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5509-9651-43DD-A7D8-3DC2276E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20D-ABE4-4501-8A92-4A78D15C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613-32A9-4E83-B944-0FA4AD5F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714-7F94-494D-BE01-9DBC1F22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985-4FBE-435F-8ADA-1D281B6D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C70B-9196-4D6E-9353-24C6B1757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6:54:17Z</dcterms:created>
  <dc:creator>Jennifer Jenkins</dc:creator>
  <dc:description/>
  <dc:language>en-US</dc:language>
  <cp:lastModifiedBy>Jennifer Jenkins</cp:lastModifiedBy>
  <dcterms:modified xsi:type="dcterms:W3CDTF">2008-12-14T17:31:46Z</dcterms:modified>
  <cp:revision>3</cp:revision>
  <dc:subject/>
  <dc:title>Slide 1</dc:title>
</cp:coreProperties>
</file>